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9A-7AD9-4728-907B-9AFFA116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CBC-A3E3-45A4-8622-022BBED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B4-4944-4DA8-9B84-C168463C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152-5028-4436-865A-3A3958B1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A34B-0408-4E71-ADE1-12C64973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1EED-CB11-439D-8A5A-E4601841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8B7-489F-4856-A698-4B9AB34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E5C-6F94-4DFD-9DF2-423E0FCB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ACD-1E44-44D4-87CF-FCF1DB4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CA77-DFB7-4F02-9DCB-5E57697F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16DF-727B-4CD1-BE1B-BD1A6F0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64C-3469-4E10-AC6E-858EE1C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784-67C8-4E4B-8E52-F5C6281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8DB-1873-4FC8-AC4C-B6534AEA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8D5C-7321-4B89-8017-852FC06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B53A-1108-44CC-87AA-F3575D22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F51-7681-4B7E-A588-7915EB9E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B68-E366-4DD2-ABB2-A377AD96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9E0-1D13-4655-8267-7ABB3EB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FF0-2596-4373-9CA0-9EE168E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0B6-E1D9-41FB-803F-34AD6DC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A8E-E88C-4FEF-A8F9-5D8629F8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37C-4573-4F55-82E9-87A6D8D0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690-D02E-46BB-A893-8D197B9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20CD-87EC-40AD-B78F-41B4E8E973F7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DD7-A0A8-4E03-A54A-E8C390127A4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DC3-9021-43EF-8B59-EC1B429ED6E7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CB93-9BDB-4042-B027-C7BF2FFEDB2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Sylfaen"/>
              </a:rPr>
              <a:t>Evaluarea nevoilo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ercetarea de pia</a:t>
            </a:r>
            <a:r>
              <a:rPr b="0" lang="ro-RO" sz="2400" spc="-1" strike="noStrike">
                <a:solidFill>
                  <a:srgbClr val="339966"/>
                </a:solidFill>
                <a:latin typeface="Tahoma"/>
              </a:rPr>
              <a:t>ţă şi nevoile clienţilo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AE9D-08CD-4B75-9FE3-CA9BC24CBC8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50DBD6-F639-4616-B05B-A06F702F287E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Te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ff6699"/>
                </a:solidFill>
                <a:latin typeface="Comic Sans MS"/>
              </a:rPr>
              <a:t>Găsesc destinaţia ideală pentru vacanţa de var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100000">
            <a:off x="6264000" y="28522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80000" y="189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6400800" y="-4800600"/>
            <a:ext cx="263376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16F-E8E5-43E0-9AA9-6452764B2C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196A0-863B-4FF9-A8F7-45580E6BB56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e ne intereseaz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De ce merg oamenii în vacanţ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Cum am putea realiza o cercetare a intereselor elevilor din şcoala noastră cu privire la destinaţia turistică preferată pentru vacanţă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6699"/>
                </a:solidFill>
                <a:latin typeface="Tahoma"/>
              </a:rPr>
              <a:t>Cum putem oferi clienţilor oferta cea mai potrivită pentru vacanţ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CD1-72E6-4FF8-9377-F2BACFB756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62535-F8E8-4458-9144-80DDAA8C035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...şi mai ce ne intereseaz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um pot realiza o cercetare de marketing eficient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Citeşte mai departe şi vei afla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33C-6675-4AF9-A127-3152D2F95B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03E8E-FC9E-4C58-9838-FC2746D9A8F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78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Ştiu – Vreau să ştiu – Am învăţ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19320"/>
            <a:ext cx="2667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ŞTIU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exemple de răspun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Trebuie organiz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e folosesc anumite metode de corcet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Chestionarul este un instrument specific cercetărilor de market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VREAU SĂ ŞTIU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e sunt cercetările de marke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stabilesc obiectivele unei cercetari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are sunt fazele şi etapele unei cercetări complexe de marketing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e metode pot fi folosite pentru o cercetare a pietei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are este metodologia de elaborare a unui chestion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putem stabili mărimea unui eşantion şi care sunt metodele de extragere a acestu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Cum realizez raportul final al unei cercetari de marke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 am ÎNVĂŢAT despre cercetări 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1080" y="2997360"/>
            <a:ext cx="1116000" cy="13683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C61-5910-4B07-95D1-8568B9B3187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E8F69-7CB6-41BB-85AE-F3A3CCCC552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Pentru a răspunde la întrebări trebuie s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laborăm chestionarul necesar cercetării propus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relucrăm informaţiile culese cu ajutorul chestionarulu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eprezentăm grafic a concluziil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laborăm raportul final al cercetăr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5F5-4A87-406F-9DC5-E3F78755C0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71D7E-B062-4035-98C2-10FE77A4648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De ce este necesară cercetarea pieţe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ercetarea pieţei înaintea iniţierii unei afaceri permi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unoaşterea clienţilo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eviziunea vânzărilo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unoaşterea concurenţilor direcţi şi indirec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Elaborarea strategiilor de acţiune cele mai potrivite nevoilor exprimate de clien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sigură creşterea profit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ermite adaptarea la modificările mediului extern existe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BFD-0B1B-4AC0-9638-B31040C184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9F3CA-12CE-4E7B-AD2C-A2379B372C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ndă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aboraţi un chestionar pentru a cerceta nevoile de vacanţă ale colegilor voştri din altă clas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plicaţi chestionarul, prelucraţi informaţiile, elaboraţi raportul la finalul cercetăr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aboraţi o broşura cu propunerile voastre de destinaţii turistice pentru cei interesaţ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814-13CD-4D3D-A637-94DD11804F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C5EB4-55D5-4C3B-9662-49A97F83821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ff"/>
                </a:solidFill>
                <a:latin typeface="Comic Sans MS"/>
              </a:rPr>
              <a:t>Succes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71560" y="28195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467160" cy="26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8FE-5AB4-46D9-A26C-589CB793B61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5D782-6E40-4548-8F32-D11A9E5E9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mona</cp:lastModifiedBy>
  <dcterms:modified xsi:type="dcterms:W3CDTF">2010-06-12T18:34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